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2500-EFAE-48A1-A2BE-F63D41B4C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2ADE-918E-417F-8620-5EC7FB284B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41E6-2B23-4DF9-B589-5C8C2379DD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2A51-D5FD-4AAE-A38E-1D57C56BC1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96B1-7989-4A86-BDE7-25FEECEA00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DC4D-1EDD-4BD6-B1EF-6EE7020D0F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DBDB-E295-418F-B8FE-9AF3537A2B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E6FA-5554-4200-A305-DA9B015E27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89E9-55A9-4D03-9C31-BB18FFC901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64B7-FC77-460B-B925-8D892E52C1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CAE3-236E-4CD1-886B-7D11B52083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4A73-5225-439C-908C-5DB40D7637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CAD7-8EC0-46E7-8177-98FA956AD3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DEE7-748D-4E7D-8F43-EEC17CB02B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CAF5-9381-42C9-ADF7-59E41C72B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FE75-8E48-437E-880E-74313327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C394-9E4E-4D58-9183-C3220BB81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E356-1A57-4EED-8E95-301B67091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6BC6-C4B9-4E0A-A9D2-75AE38CBF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C802B-8902-4ED0-ABFC-80CB1809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1CA1-C78C-4841-958D-A5C54090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F36D-D8A5-44C4-A5E8-F8268971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4083-2C16-4267-A471-9DB7E1C2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464B-086E-457E-B7E6-733C4CF3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A432-1578-4718-B6F1-6CECAB34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6280-A364-48C5-B2A9-7E4B7D0D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208D-7DC8-4EA6-97F5-BA04DC67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8578-B934-42D3-A3AA-E3233371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D42A-9215-4519-A48B-6A71FC0F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9E15D-D8A2-4B1F-BF51-7E6DD42A3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5446-F63B-4639-B4B5-A23736D08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5CB2-D4EA-49C7-AA5E-3E6B70D9C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03C9-A3D5-4C73-A425-8AF17BFC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FF28-C3C1-41AA-B9CB-2B2288E7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0378-9EDE-4D1C-A784-79F4DDE3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BFEC-17EB-4F68-9EA0-9817C464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04FE-CFEE-4F42-B62F-66BD5B9D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6416-F3B5-4214-BCA1-30112B76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A250-3FBD-42BB-A09B-0D2F094C20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1CF4-DF6E-4C36-90A9-4CC908A436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2362320"/>
            <a:ext cx="7772400" cy="2270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Workshop on Consumer Protection in the Retail Financial Services Sector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4479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odney Lest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orld Ban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russels, October 16, 2008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3733920" y="609480"/>
            <a:ext cx="17524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ahoma"/>
              </a:rPr>
              <a:t>1. Why different? - continued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anagers respond to what is measured and what is rewarded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946 to 1980 – technological management – the firm and its constituents counted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980 to now – the ‘inside proprietor’ – stock options etc – purely a value creating exercise for equity capit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re pronounced for financial sector – demutualization of life insurers, separate managers for mutual funds/ unit trusts,  investment banks began ti use own capital - - all creating conflicts of interes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gency incentives more distorting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mmission can influence product sold – not just product characteristic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olume incentives can distort advice giv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P laws are in fact in place for many experience good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ealth and safety regula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abeling requiremen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nstruction standar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3. Competition is not the full story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960s/70s – emphasis on competition policy (market failure) – regulation of concentration, resale price maintenance, tying, information asymmetry et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w - more complex models of markets – impact of policy interventions less clear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o. of competitors is a poor measur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st of information is critical issu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rgaining power is context sensitive (even with same skills) – e.g. role of sunk cos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ne time versus frequent transac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nnot apply a general CP framework – depends on nature of marke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88596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7"/>
          <p:cNvSpPr/>
          <p:nvPr/>
        </p:nvSpPr>
        <p:spPr>
          <a:xfrm>
            <a:off x="609480" y="6324480"/>
            <a:ext cx="701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ee: Hadfield,G.K. et al. Information-Based Principles for Rethinking Consumer Protection Policy, Journal of Consumer Policy 21, pp 131-169, 1998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  <a:ea typeface="Tahoma"/>
              </a:rPr>
              <a:t>3. Key question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dentifying a CP problem – identify level of competition, and whether structural or informational probl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ciding if government intervention is necessary – why is market not self correcting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ciding on appropriate regulatory instruments – minimize information acquisition and processing costs for consumers, decide whether proactive or reactiv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609480" y="6324480"/>
            <a:ext cx="701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ee: Hadfield,G.K. et al. Information-Based Principles for Rethinking Consumer Protection Policy, Journal of Consumer Policy 21, pp 131-169, 1998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4. Many FS products are not easy to understand – not just annuities and life insuranc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61760" y="2057040"/>
            <a:ext cx="7467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50% of those sold sub  prime mortgages in the US were eligible for fixed rate loan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sumer credit wordings can see unsophisticated people lose their houses – Slovak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undled/ tied contracts can hide poor consumer benefits - Russ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28800" y="277920"/>
            <a:ext cx="6858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5. Legal recourse is not cheap or easy in all countri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54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ew countries have class action op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egal fees up front are the nor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n take many years (9 to court of first instance in Croatia) for a decis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wyers can hide offers of settlement to draw actions ou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urts can also discriminate against suppli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urts in many emerging markets do not understand financial sector and are subject to ‘influence’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77920"/>
            <a:ext cx="70102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ut there are legitimate concerns about MC regul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reates moral hazard – increases risk in the system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gulators will be conservative and over-regul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gulation can be difficult to interpret and require ongoing modifi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gulation can be used to entrench existing products and players – inhibit innov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P emphasis can detract from prudential oversigh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me basic criteria emer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mple, clear - does not add to cost of consumer’s information acquisi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es not distort the mark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vernment intervention as last resort - uses private sector mechanisms where possi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t expensive for suppliers to imple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asily accessed by the average ‘punter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o what are the core interventions for retail F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pacity for cheap, efficient 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recours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– cooling off for complex products subject to malign incentives, AD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ke sure the consumer knows at least the basics of what they are buying – 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key facts document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ratios, warning labels et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ncourage private sector 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information intermediarie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as first option – media, rating companies, Choice et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e 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prudential not CP regulation to deal with systemic risk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– sub-prime, Alt- A, CDS could have been mitigated with decent capital and reporting  requireme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re context sensiti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Deposit insurance/ guarantee fund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once in cannot remo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Default product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who takes responsibili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intermediary - compete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o sell the produ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  <a:ea typeface="Tahoma"/>
              </a:rPr>
              <a:t>Other contextual issu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age of development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IC – minimal regulation desirable – use fit and prop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C – heavier reliance on recourse (ex post versus ex ant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ndatory pensions/ insurance managed by private sector –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e institutional structures plus g’tee fun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asic them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in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P regulation should be context sensitive - work so far has been on reasonably similar EU accession countrie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ub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olkit used needs to be tailored to nature of product, stage of development of system, nature of consumer et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ols used should not add to consumers investment in information acquisi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oles of prudential and CP rules should not be confus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4"/>
          <p:cNvSpPr/>
          <p:nvPr/>
        </p:nvSpPr>
        <p:spPr>
          <a:xfrm>
            <a:off x="1143000" y="228600"/>
            <a:ext cx="701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hy CP regulation? - people have to make life cycle decis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609480" y="1600200"/>
            <a:ext cx="79250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 life events that require prior planning (in particular in democratic and market-oriented societies) ..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Children (if, when, how many, …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Education and skills (initial, changing stream, life long learning, …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Car, chattel purcha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Housing purchase (if, when, where, how, …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Retirement (if, when, where, how, …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7"/>
          <p:cNvSpPr/>
          <p:nvPr/>
        </p:nvSpPr>
        <p:spPr>
          <a:xfrm>
            <a:off x="533520" y="6248520"/>
            <a:ext cx="51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ed on: Holzmann, R. WB present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380880" y="1447920"/>
            <a:ext cx="8229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knowledge and skill for applying principals of economics to personal finance, e.g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aw of one price (no free lunch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esent value of consumption cannot exceed life time earning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suring and portfolio decision under uncertain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dgeting and basic numeric/quantitative skil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ving, investing, borrowing, lending, insuring, diversifying, matching, 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1066680" y="1522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these all involve financial planning and decisions for 90% of peop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380880" y="640080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Holtzmann, R. WB present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71625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e Financial System is also seen to have key macro roles and positive externaliti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fficient allocation of consumption, risk and invest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fficient transfer of assets/ ownership – investment becomes more sec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bilizes saving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icing, hedging and transferring risk efficiently – reducing cost and risk of invest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urce of information – ‘coordinating decentralized decisions throughout the economy’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4724280" cy="4876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"/>
          <p:cNvPicPr/>
          <p:nvPr/>
        </p:nvPicPr>
        <p:blipFill>
          <a:blip r:embed="rId2"/>
          <a:stretch/>
        </p:blipFill>
        <p:spPr>
          <a:xfrm>
            <a:off x="5334120" y="1828800"/>
            <a:ext cx="3809880" cy="31622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1143000" y="0"/>
            <a:ext cx="769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ever an effective approach to consumer financial literacy training remains elusi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3520" y="277920"/>
            <a:ext cx="71629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o financial sector regulation has become a public good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6858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6 possible reasons for regulation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op failure of financial institu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intain consumer confidence in the syste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nsure consumers receive adequate information and are treated fair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 assure fair pric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tect consumers from fraud and misrepresent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 prevent unfair discrimination and other social objectiv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8859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4"/>
          <p:cNvSpPr/>
          <p:nvPr/>
        </p:nvSpPr>
        <p:spPr>
          <a:xfrm>
            <a:off x="533520" y="6216480"/>
            <a:ext cx="830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umer Protection as Justification for Regulating Financial-Services Firms and Products, Benston,J.B. Journal of Financial Services Research, pp 277- 301, 200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But Benston</a:t>
            </a:r>
            <a:r>
              <a:rPr b="0" lang="en-US" sz="2800" spc="-1" strike="noStrike" baseline="30000">
                <a:solidFill>
                  <a:srgbClr val="ffffcc"/>
                </a:solidFill>
                <a:latin typeface="Tahoma"/>
              </a:rPr>
              <a:t>*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argues only the first is justified (for banks, long term savings, 3</a:t>
            </a:r>
            <a:r>
              <a:rPr b="0" lang="en-US" sz="2800" spc="-1" strike="noStrike" baseline="30000">
                <a:solidFill>
                  <a:srgbClr val="ffffcc"/>
                </a:solidFill>
                <a:latin typeface="Tahoma"/>
              </a:rPr>
              <a:t>rd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party liability insurance ) and should be achieved through prudential rule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Why treated differently to other product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reate moral hazard – increases risk in the system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Competition will ensure proper market conduc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Most financial products are easy to understand and compa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Consumers have legal recourse anywa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gulators will be conservative and over-regul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gulation can be difficult to interpret and require ongoing modific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gulation can be used to entrench existing products and play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1. Why different?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re scope for asymmetric information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ith credence goods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*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kerlof – role of private information in distorting/ diminishing marke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pence – use of signaling to overcome information asymmetr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iglitz -  use of screening to overcome information asymmetr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esence of ‘counteracting’ market institu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*  3 types of good –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earch good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(can be assessed in advance of purchase – piece of art),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experience good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(can be assessed relatively quickly with use – soap powder),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credence good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(attributes only discovered after a long delay or upon occurrence of contingent event or never – mutual fund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8859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838080" y="2590920"/>
            <a:ext cx="152640" cy="1295280"/>
          </a:xfrm>
          <a:custGeom>
            <a:avLst/>
            <a:gdLst>
              <a:gd name="textAreaLeft" fmla="*/ 97560 w 152640"/>
              <a:gd name="textAreaRight" fmla="*/ 153000 w 15264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124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xplain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2T20:44:35Z</dcterms:created>
  <dc:creator>WB175523</dc:creator>
  <dc:description/>
  <dc:language>en-US</dc:language>
  <cp:lastModifiedBy>maria</cp:lastModifiedBy>
  <dcterms:modified xsi:type="dcterms:W3CDTF">2008-10-15T14:28:23Z</dcterms:modified>
  <cp:revision>36</cp:revision>
  <dc:subject/>
  <dc:title>Workshop on Consumer Protection in the Retail Financial Services sector</dc:title>
</cp:coreProperties>
</file>