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B629-D5BA-4404-BA66-DF572AA14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C5A7-00FA-4960-BBD2-F6191F4107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8362-5D15-4291-BC23-3EE736FF53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A827-485C-409B-A116-09A64765F7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CE1E-51EC-4ACC-96AB-17E02EA576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B11F-59AA-4DCD-8661-17520AE572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05F8-9192-44DB-B2F0-7A86E8C915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E752-4AFB-4320-A933-EBFE629710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2899-80D9-49AD-862F-60926AB2D3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42B3-D001-4C92-88F3-9B992F87F0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EF3F-3AFB-46AF-8779-E95A629F71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204E-4DD7-47D5-9E5C-9ACA0686E9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D27E-6D6D-4194-B820-BAAD5E5909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FD37-D562-46FE-B405-1BA213A2F5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E04-3662-40A5-A473-FA9A947C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CE7-3AFE-46F4-BB19-CDC386C0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EDF-6C34-4D92-AA23-4DA850DE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171-EACA-445E-A5AC-50AADF3F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1D7C-09BD-4BF8-BBBC-51BC63D2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0184-12BE-4FB4-9D3E-40A8F4F9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19D5-871E-41AC-B899-381C5C4D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415C-3893-4349-B06E-FB3B38A3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8BFC-F75A-434F-9441-A3340887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E130-3A1B-41A4-9E0D-3BAE2397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D1FD-1DAA-4648-9BCB-1986928A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2B7-4B01-4178-8C27-9573FC12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3319-1F32-402D-842E-627C645F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8478-22CE-49DD-A710-A9249DF6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DEBD-AB2B-4762-BF38-45C68E2E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B10F-C616-4F1D-82A5-188990BB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BA29-222A-4B69-9E77-69B457AA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E4A-BE02-4D8A-9687-341CBA1B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6F8-1F2B-4721-9F4A-7D0E35AB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736-9B90-4FCF-80A6-0E3AE60E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516-26E8-4B19-91A7-86417B60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E46-0777-45F1-9B28-ABB629E8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5A6-3908-45B4-8B85-B56A2311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77D-D703-4C03-A537-DFBD0683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7504-61C4-4CC5-8122-AA76A2A176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770C-55DC-4339-B146-507C5CAB06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2362320"/>
            <a:ext cx="7772400" cy="2270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Workshop on Consumer Protection in the Retail Financial Services Sector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dney Lest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ld Ban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ussels, October 16, 200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3733920" y="609480"/>
            <a:ext cx="1752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1. Why different? - continued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nagers respond to what is measured and what is rewarded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946 to 1980 – technological management – the firm and its constituents counted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980 to now – the ‘inside proprietor’ – stock options etc – purely a value creating exercise for equity capit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pronounced for financial sector – demutualization of life insurers, separate managers for mutual funds/ unit trusts,  investment banks began ti use own capital - - all creating conflicts of inter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gency incentives more distort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ission can influence product sold – not just product characteristic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olume incentives can distort advice giv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P laws are in fact in place for many experience good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alth and safety regula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beling requirem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struction standar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3. Competition is not the full stor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960s/70s – emphasis on competition policy (market failure) – regulation of concentration, resale price maintenance, tying, information asymmetry et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w - more complex models of markets – impact of policy interventions less clear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. of competitors is a poor measur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st of information is critical issu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rgaining power is context sensitive (even with same skills) – e.g. role of sunk cos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ne time versus frequent transa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nnot apply a general CP framework – depends on nature of mark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7"/>
          <p:cNvSpPr/>
          <p:nvPr/>
        </p:nvSpPr>
        <p:spPr>
          <a:xfrm>
            <a:off x="609480" y="6324480"/>
            <a:ext cx="701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e: Hadfield,G.K. et al. Information-Based Principles for Rethinking Consumer Protection Policy, Journal of Consumer Policy 21, pp 131-169, 199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  <a:ea typeface="Tahoma"/>
              </a:rPr>
              <a:t>3. Key question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entifying a CP problem – identify level of competition, and whether structural or informational probl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iding if government intervention is necessary – why is market not self correcting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iding on appropriate regulatory instruments – minimize information acquisition and processing costs for consumers, decide whether proactive or react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09480" y="6324480"/>
            <a:ext cx="701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e: Hadfield,G.K. et al. Information-Based Principles for Rethinking Consumer Protection Policy, Journal of Consumer Policy 21, pp 131-169, 199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4. Many FS products are not easy to understand – not just annuities and life insuranc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467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0% of those sold sub  prime mortgages in the US were eligible for fixed rate loan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umer credit wordings can see unsophisticated people lose their houses – Slovak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ndled/ tied contracts can hide poor consumer benefits -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28800" y="277920"/>
            <a:ext cx="6858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5. Legal recourse is not cheap or easy in all countri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w countries have class action op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gal fees up front are the nor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take many years (9 to court of first instance in Croatia) for a deci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wyers can hide offers of settlement to draw actions ou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urts can also discriminate against suppli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urts in many emerging markets do not understand financial sector and are subject to ‘influence’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77920"/>
            <a:ext cx="70102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ut there are legitimate concerns about MC regul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ates moral hazard – increases risk in the system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gulators will be conservative and over-regul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gulation can be difficult to interpret and require ongoing modifi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gulation can be used to entrench existing products and players – inhibit innov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P emphasis can detract from prudential overs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me basic criteria emer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mple, clear - does not add to cost of consumer’s information acquisi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es not distort the mark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vernment intervention as last resort - uses private sector mechanisms where possi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t expensive for suppliers to impl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sily accessed by the average ‘punter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o what are the core interventions for retail F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acity for cheap, efficient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recours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cooling off for complex products subject to malign incentives, AD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 sure the consumer knows at least the basics of what they are buying –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key facts document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ratios, warning labels et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courage private sector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information intermediari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s first option – media, rating companies, Choice et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prudential not CP regulation to deal with systemic risk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sub-prime, Alt- A, CDS could have been mitigated with decent capital and reporting  require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context sensit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Deposit insurance/ guarantee fu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once in cannot remo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Default produc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who takes responsibil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intermediary - compet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sell the produ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  <a:ea typeface="Tahoma"/>
              </a:rPr>
              <a:t>Other contextual issu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ge of developmen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C – minimal regulation desirable – use fit and prop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C – heavier reliance on recourse (ex post versus ex ant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datory pensions/ insurance managed by private sector –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institutional structures plus g’tee fu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sic the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P regulation should be context sensitive - work so far has been on reasonably similar EU accession countri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b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olkit used needs to be tailored to nature of product, stage of development of system, nature of consumer et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ols used should not add to consumers investment in information acquis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oles of prudential and CP rules should not be confu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1143000" y="22860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y CP regulation? - people have to make life cycle decis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life events that require prior planning (in particular in democratic and market-oriented societies) 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Children (if, when, how many, …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Education and skills (initial, changing stream, life long learning, …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Car, chattel purch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Housing purchase (if, when, where, how, …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Retirement (if, when, where, how, …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533520" y="62485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on: Holzmann, R. WB presen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380880" y="144792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knowledge and skill for applying principals of economics to personal finance, e.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w of one price (no free lunc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 value of consumption cannot exceed life time earning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uring and portfolio decision under uncertain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dgeting and basic numeric/quantitative ski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ving, investing, borrowing, lending, insuring, diversifying, matching, 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066680" y="152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these all involve financial planning and decisions for 90% of peop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80880" y="6400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Holtzmann, R. WB presen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Financial System is also seen to have key macro roles and positive externaliti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fficient allocation of consumption, risk and invest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fficient transfer of assets/ ownership – investment becomes more sec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bilizes saving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cing, hedging and transferring risk efficiently – reducing cost and risk of invest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urce of information – ‘coordinating decentralized decisions throughout the economy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724280" cy="487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5334120" y="1828800"/>
            <a:ext cx="3809880" cy="31622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1143000" y="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ever an effective approach to consumer financial literacy training remains elus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520" y="27792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o financial sector regulation has become a public goo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685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 possible reasons for regulat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op failure of financial institu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tain consumer confidence in the sy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sure consumers receive adequate information and are treated fair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assure fair pric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tect consumers from fraud and misrepres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prevent unfair discrimination and other social object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533520" y="621648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umer Protection as Justification for Regulating Financial-Services Firms and Products, Benston,J.B. Journal of Financial Services Research, pp 277- 301, 20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ut Benston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argues only the first is justified (for banks, long term savings, 3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party liability insurance ) and should be achieved through prudential ru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Why treated differently to other product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moral hazard – increases risk in the system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ompetition will ensure proper market condu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Most financial products are easy to understand and comp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onsumers have legal recourse anywa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gulators will be conservative and over-regul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gulation can be difficult to interpret and require ongoing modifi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gulation can be used to entrench existing products and play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1. Why different?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re scope for asymmetric informatio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th credence goods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kerlof – role of private information in distorting/ diminishing mark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ence – use of signaling to overcome information asymmet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iglitz -  use of screening to overcome information asymmet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sence of ‘counteracting’ market institu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*  3 types of good –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earch goo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(can be assessed in advance of purchase – piece of art),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xperience goo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(can be assessed relatively quickly with use – soap powder),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redence goo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(attributes only discovered after a long delay or upon occurrence of contingent event or never – mutual fund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885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38080" y="2590920"/>
            <a:ext cx="152640" cy="129528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24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xplai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20:44:35Z</dcterms:created>
  <dc:creator>WB175523</dc:creator>
  <dc:description/>
  <dc:language>en-US</dc:language>
  <cp:lastModifiedBy>maria</cp:lastModifiedBy>
  <dcterms:modified xsi:type="dcterms:W3CDTF">2008-10-15T14:28:23Z</dcterms:modified>
  <cp:revision>36</cp:revision>
  <dc:subject/>
  <dc:title>Workshop on Consumer Protection in the Retail Financial Services sector</dc:title>
</cp:coreProperties>
</file>