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1C7-22E9-4CAC-BE37-81E0A6CE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6E5-F586-4090-BB75-FA53B94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D9E-363F-4DC5-A84D-02BE27A5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BDD-92DE-49C6-AD75-99FFCAC5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1D8-4BC9-4407-A8D6-02C42925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0D6-555D-4CF7-87CB-F9A8E71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71B-24D9-4DD1-BA40-049F6501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77D-F7A8-4E26-BEC1-393E39F5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CFD-159D-4F00-9D5D-20F05FE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329-6075-405D-8447-4F80A51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EBE-4625-4C40-B5EC-2B73754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4E9-92D2-44B6-B956-C20F590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6388560" y="6185520"/>
            <a:ext cx="2072880" cy="591840"/>
            <a:chOff x="6388560" y="6185520"/>
            <a:chExt cx="2072880" cy="591840"/>
          </a:xfrm>
        </p:grpSpPr>
        <p:sp>
          <p:nvSpPr>
            <p:cNvPr id="15" name=""/>
            <p:cNvSpPr/>
            <p:nvPr/>
          </p:nvSpPr>
          <p:spPr>
            <a:xfrm>
              <a:off x="6400800" y="6324480"/>
              <a:ext cx="291960" cy="290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434280" y="6364440"/>
              <a:ext cx="22536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08800" y="6364440"/>
              <a:ext cx="8244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551640" y="6372360"/>
              <a:ext cx="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442200" y="6472080"/>
              <a:ext cx="2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8100000">
              <a:off x="6431760" y="6230520"/>
              <a:ext cx="21564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7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7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2640000">
              <a:off x="6447600" y="6513840"/>
              <a:ext cx="2250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1"/>
                  </a:moveTo>
                  <a:arcTo wR="10800" hR="10800" stAng="-10749448" swAng="5301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1"/>
                  </a:moveTo>
                  <a:arcTo wR="10800" hR="10800" stAng="-10749448" swAng="530103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89880" y="6340320"/>
              <a:ext cx="177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B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8457840" y="63241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9D8-E98E-4274-9AA7-4F4E86596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004520" y="6344280"/>
            <a:ext cx="2072880" cy="591840"/>
            <a:chOff x="7004520" y="6344280"/>
            <a:chExt cx="2072880" cy="591840"/>
          </a:xfrm>
        </p:grpSpPr>
        <p:sp>
          <p:nvSpPr>
            <p:cNvPr id="78" name=""/>
            <p:cNvSpPr/>
            <p:nvPr/>
          </p:nvSpPr>
          <p:spPr>
            <a:xfrm>
              <a:off x="7016760" y="6483240"/>
              <a:ext cx="291960" cy="290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50240" y="6523200"/>
              <a:ext cx="22536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4760" y="6523200"/>
              <a:ext cx="82440" cy="214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7600" y="6531120"/>
              <a:ext cx="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58160" y="6630840"/>
              <a:ext cx="2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8100000">
              <a:off x="7047720" y="6389280"/>
              <a:ext cx="21564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7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7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640000">
              <a:off x="7063560" y="6672600"/>
              <a:ext cx="225000" cy="2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41"/>
                  </a:moveTo>
                  <a:arcTo wR="10800" hR="10800" stAng="-10749448" swAng="5301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41"/>
                  </a:moveTo>
                  <a:arcTo wR="10800" hR="10800" stAng="-10749448" swAng="530103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05840" y="6499080"/>
              <a:ext cx="177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LD B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orldbank.org/eca/consumerprotection" TargetMode="External"/><Relationship Id="rId2" Type="http://schemas.openxmlformats.org/officeDocument/2006/relationships/hyperlink" Target="mailto:consumerprotection@worldbank.org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RI Se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ood Practices of Consumer Protection in Financial Services Brussels, 16 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or, Consum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utledge@worldban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Good Practices cover 8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protection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 and sale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account handling and mainten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nd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ute resolution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and compens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empowerment and financial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EC7-8B40-4766-AB6C-F36FE7CDB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1. Consumer Protection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ear consumer protection rules with necessary institutional arrang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ance between prudential supervision and consumer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ciples-based code of conduct for financial institu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censing and supervision of legal entities that collect funds or lend funds to the 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spcAft>
                <a:spcPts val="575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redible judicial system and active media and consumer associ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CB6-F340-494F-9F81-20CF1DD8B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2. Disclosure and Sale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copy of general and product-specific terms an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acts Statement in plain language of key terms an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firms to gather information to ensure product or service i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ling-off periods for products with savings components—or subject to high-pressure sales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can choose the provider for products that are pre-conditions for othe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vertising, financial institutions to disclose that they are regulated and by which regulatory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of financial institutions to receive training suitable for complexity of products 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associations to prepare standard simple format for financial firms to disclose annual finan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7FA-CAC7-4052-AC2D-FB5F68AEF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Customer Account Handling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institutions to prepare monthly statements regarding key details of financial 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s to be individually notified of changes in interest rates, fees, and charges as soon as possi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institutions to maintain up-to-date customer records and provide ready and free access to customers to their 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ing of customer transactions to be based on clear statutory and regulatory rules—or be subject to effective self-regulatory arrang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financial institution—or third party—to employ abusive collection practices against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D05-8D9D-400B-ADB0-B23857874A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4. Privacy and Data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of information-sharing within credit reporting system set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sumer rights re information sharing, access, rectification, and blocking set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inform re use of custom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to have ready and free access to credit reports (minimum annual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protect confidentiality and security of custom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ureaus to be subject to oversight with enforcement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E82-25EF-420B-87C7-5F08C9A80C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5. Dispute Resolu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firms to have clear procedures for handling and maintaining records of compla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access to affordable and efficient mechanism for recou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urse mechanism to act impar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of customer complaints to be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agencies to publish analyses of their activities on consumer protection—and propose measures to avoid sources of systemic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associations to analyze statistics and propo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7D6-95B9-4FB5-AB11-AD1800271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6. Guarantee Schemes and Insolv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to have authority to take prompt corrective action in event of distress at a financial 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aw on financial insurance or guarantee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insurance or guarantee fund, effective and timely payout mechanism if financial firm in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ors to have higher priority than other unsecured creditors in liquidation of a financial 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ious, cost-effective and equitable provisions in law to ensure timely refund of deposits to depo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4EC-0E87-446D-B1B7-1D9A3984A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7. Consumer Empowerment –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nanci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of basic financial concepts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s and associations to provide information to mass media to encourage analysis of financial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gulators to publish independent information on costs, risks and benefits of financial product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organizations encouraged to provide consumer awareness programs re personal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s of financial capability (including consumer financial behavior)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7A2-8C19-4FB4-8DE2-4EBCBF4C1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8.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egulators and competition authorities to consult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policy in financial services to consider impact of competition issues on consumer welfare, especially limits on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authorities to publish periodic assessments of competition in retail financial institutions and mak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C1A-5093-4A74-9644-F4FD79B06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nd comment sought from regulators and other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reviews in other countries and othe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tools to prioritize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country survey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and regulatory frameworks for financial consumer prot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financial literacy and common patterns of financial consumer behavior (financial cap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13F-8E22-4137-BC45-6A8D9D9AF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Many countries have little access to finance and little experience with financial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86600" cy="3254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9320" y="59436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World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F28-DD56-4BBD-8279-5DED04642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or mor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WB reports available at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worldbank.org/eca/consumer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on Good Practices can be s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onsumerprotection@worldbank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01A-B56D-4F01-BAAE-327ADE9923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RI Semina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ood Practices of Consumer Protection in Financial Services Brussels, 16 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ut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or, Consumer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utledge@worldbank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 emerging markets, rapid income growth has provided consumers with more resources to inv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2590920"/>
            <a:ext cx="3581280" cy="2779920"/>
            <a:chOff x="685800" y="2590920"/>
            <a:chExt cx="3581280" cy="27799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685800" y="2590920"/>
              <a:ext cx="358128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85800" y="512460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Unicre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2286000"/>
            <a:ext cx="2989080" cy="3811680"/>
            <a:chOff x="5105520" y="2286000"/>
            <a:chExt cx="2989080" cy="38116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105520" y="2286000"/>
              <a:ext cx="29890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05520" y="585144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Unicre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257-E5B5-49E0-A5BB-18EE8EBA16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Rapid growth of household credit accompanied by greater difficulty to understand risks &amp; obli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433" t="651" r="1433" b="1622"/>
          <a:stretch/>
        </p:blipFill>
        <p:spPr>
          <a:xfrm>
            <a:off x="1371600" y="2133720"/>
            <a:ext cx="6781680" cy="39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4952880" y="6019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ni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156-5C78-4870-BEED-E1DD99B63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Globalization of financial markets has brought new challenges in financial consumer pro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38640" y="2057400"/>
          <a:ext cx="460044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2057400"/>
                    <a:ext cx="460044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419720" y="5775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ankscope, WorldBank calcu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2133720"/>
            <a:ext cx="3657240" cy="3580560"/>
            <a:chOff x="533520" y="2133720"/>
            <a:chExt cx="3657240" cy="358056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rcRect l="0" t="9832" r="0" b="6555"/>
            <a:stretch/>
          </p:blipFill>
          <p:spPr>
            <a:xfrm>
              <a:off x="533520" y="2510280"/>
              <a:ext cx="3657240" cy="32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95520" y="2237040"/>
              <a:ext cx="341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eign ownership in the banking s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2133720"/>
              <a:ext cx="3657240" cy="353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5800" y="59436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BIS, National Bank of Lithuania, Barclays Capi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905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E78-9677-44CF-A5A9-40C0149E09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iagnostic Reviews in 9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02"/>
          <a:stretch/>
        </p:blipFill>
        <p:spPr>
          <a:xfrm>
            <a:off x="990720" y="1143000"/>
            <a:ext cx="7010280" cy="517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D4C-10AC-476D-9183-C86B1EACAB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Good Practices: Diagno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Practices released as Consultative Dra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d for 4 seg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bank credit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are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pen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reporting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cap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098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B6E-0D04-4B71-9D73-4FA3D2783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Good Practices were developed using international bench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 Di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for International Settlements, Base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Organization of Securities Com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ssociation of Insurance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 for Economic Co-operation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and regulations of EU Member States (ex, France, Ireland,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s and regulations of Australia, Canada, Malaysia, Mexico, Peru, South Africa, United States (FTC, SEC, state la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 of conduct of associations of banking, insurance, other seg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148-9267-4DA5-8042-D778873CC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Financial sector should provide </a:t>
            </a:r>
            <a:br>
              <a:rPr sz="30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onsumer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paren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ear and comparable information about prices, terms and conditions of financial products and services, all written in plain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oic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coercive and reasonable practices in selling of products and collection of re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dres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xpensive and speedy mechanisms to address complaints and resolve disp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ac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rol over access to personal financi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752480"/>
            <a:ext cx="8229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5EE-41A2-4356-A630-783468272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58:34Z</dcterms:created>
  <dc:creator>wb21169</dc:creator>
  <dc:description/>
  <dc:language>en-US</dc:language>
  <cp:lastModifiedBy>maria</cp:lastModifiedBy>
  <dcterms:modified xsi:type="dcterms:W3CDTF">2008-10-16T10:02:42Z</dcterms:modified>
  <cp:revision>194</cp:revision>
  <dc:subject/>
  <dc:title>Consumer protection</dc:title>
</cp:coreProperties>
</file>